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BOLIDO.WAV" ContentType="audio/x-wav"/>
  <Override PartName="/ppt/media/image8.wmf" ContentType="image/x-wmf"/>
  <Override PartName="/ppt/media/image1.jpeg" ContentType="image/jpeg"/>
  <Override PartName="/ppt/media/image4.wmf" ContentType="image/x-wmf"/>
  <Override PartName="/ppt/media/LASER.WAV" ContentType="audio/x-wav"/>
  <Override PartName="/ppt/media/image1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media/image5.png" ContentType="image/png"/>
  <Override PartName="/ppt/media/CLIC.WAV" ContentType="audio/x-wav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276-094F-4E72-8DA5-A170775C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80C-A6CB-4157-98BA-49D0521A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4F5-1DC6-4DA3-A97C-0E19E1E1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F3A-6308-4084-9D82-319A1D6A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659-51FF-4E07-BC4E-20885E29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DDD-B524-4E17-AD06-BD17906A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59A-C24C-4C1F-B182-71E7598C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2A7-95F5-48DB-9919-3943B10E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AF5-5715-48AE-B363-25A6BC69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B4B-E4F1-47C0-AC6E-661F0D2D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96D-9491-4BDD-9A07-119E9A86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5DE-D411-426D-AFA0-C86A4639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D424-3440-4D2F-B448-FA92883E9B9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BOLID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LIDO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2" descr="PUBLIC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ángulo 3"/>
          <p:cNvSpPr/>
          <p:nvPr/>
        </p:nvSpPr>
        <p:spPr>
          <a:xfrm>
            <a:off x="1676520" y="2638440"/>
            <a:ext cx="586728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00"/>
                </a:solidFill>
                <a:latin typeface="Impact"/>
              </a:rPr>
              <a:t>ALGUNAS CARACTERÍSTICAS DE LOS ADULTOS EN EL PROCESO DE APRENDIZA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magen 4" descr="MIPES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4" name="Imagen 5" descr="MIPES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PosterBodoni BT"/>
              </a:rPr>
              <a:t>EL ALUMNO ADU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uadro de texto 4"/>
          <p:cNvSpPr/>
          <p:nvPr/>
        </p:nvSpPr>
        <p:spPr>
          <a:xfrm>
            <a:off x="609480" y="223344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lbertus Extra Bold"/>
              </a:rPr>
              <a:t>1. Retiene la capacidad de apre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uadro de texto 5"/>
          <p:cNvSpPr/>
          <p:nvPr/>
        </p:nvSpPr>
        <p:spPr>
          <a:xfrm>
            <a:off x="609480" y="3147840"/>
            <a:ext cx="791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lbertus Extra Bold"/>
              </a:rPr>
              <a:t>2. Tiene menos curiosidad. (Se interesa por pocas co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uadro de texto 6"/>
          <p:cNvSpPr/>
          <p:nvPr/>
        </p:nvSpPr>
        <p:spPr>
          <a:xfrm>
            <a:off x="628560" y="4367160"/>
            <a:ext cx="775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lbertus Extra Bold"/>
              </a:rPr>
              <a:t>3. Es menos abierto a ideas nuevas. (Conservad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uadro de texto 7"/>
          <p:cNvSpPr/>
          <p:nvPr/>
        </p:nvSpPr>
        <p:spPr>
          <a:xfrm>
            <a:off x="676440" y="5729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lbertus Extra Bold"/>
              </a:rPr>
              <a:t>4. Cambia lent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 de texto 2"/>
          <p:cNvSpPr/>
          <p:nvPr/>
        </p:nvSpPr>
        <p:spPr>
          <a:xfrm>
            <a:off x="4152960" y="762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Es más independ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uadro de texto 3"/>
          <p:cNvSpPr/>
          <p:nvPr/>
        </p:nvSpPr>
        <p:spPr>
          <a:xfrm>
            <a:off x="4038480" y="228600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6. Desea pruebas. (Se coloca como jue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uadro de texto 4"/>
          <p:cNvSpPr/>
          <p:nvPr/>
        </p:nvSpPr>
        <p:spPr>
          <a:xfrm>
            <a:off x="4114800" y="380988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7. Desea seguridad. Comod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uadro de texto 5"/>
          <p:cNvSpPr/>
          <p:nvPr/>
        </p:nvSpPr>
        <p:spPr>
          <a:xfrm>
            <a:off x="1981080" y="502920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8. Es práctico. (No quiere entretenimientos ni teor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magen 8" descr="suavión"/>
          <p:cNvPicPr/>
          <p:nvPr/>
        </p:nvPicPr>
        <p:blipFill>
          <a:blip r:embed="rId1"/>
          <a:stretch/>
        </p:blipFill>
        <p:spPr>
          <a:xfrm>
            <a:off x="533520" y="380880"/>
            <a:ext cx="3427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ángulo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uadro de texto 2"/>
          <p:cNvSpPr/>
          <p:nvPr/>
        </p:nvSpPr>
        <p:spPr>
          <a:xfrm>
            <a:off x="2133720" y="7621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0960" indent="-750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PosterBodoni BT"/>
              </a:rPr>
              <a:t>9. Teme fracasar. (Expon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uadro de texto 3"/>
          <p:cNvSpPr/>
          <p:nvPr/>
        </p:nvSpPr>
        <p:spPr>
          <a:xfrm>
            <a:off x="4572000" y="27432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PosterBodoni BT"/>
              </a:rPr>
              <a:t>10. Busca protegers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uadro de texto 4"/>
          <p:cNvSpPr/>
          <p:nvPr/>
        </p:nvSpPr>
        <p:spPr>
          <a:xfrm>
            <a:off x="1981080" y="4876920"/>
            <a:ext cx="541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9680" indent="-10396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PosterBodoni BT"/>
              </a:rPr>
              <a:t>11. No le agrada ser dirig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to 6"/>
          <p:cNvGraphicFramePr/>
          <p:nvPr/>
        </p:nvGraphicFramePr>
        <p:xfrm>
          <a:off x="609480" y="1828800"/>
          <a:ext cx="3302280" cy="31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t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330228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ángulo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ff33"/>
                </a:solidFill>
                <a:latin typeface="PosterBodoni BT"/>
              </a:rPr>
              <a:t>12. TIENE UN PASADO VARIADO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uadro de texto 3"/>
          <p:cNvSpPr/>
          <p:nvPr/>
        </p:nvSpPr>
        <p:spPr>
          <a:xfrm rot="313200">
            <a:off x="380520" y="182844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PosterBodoni BT"/>
              </a:rPr>
              <a:t>Vivenc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uadro de texto 4"/>
          <p:cNvSpPr/>
          <p:nvPr/>
        </p:nvSpPr>
        <p:spPr>
          <a:xfrm rot="870600">
            <a:off x="5752800" y="182376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0000"/>
                </a:solidFill>
                <a:latin typeface="Benguiat Bk BT"/>
              </a:rPr>
              <a:t>Cri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uadro de texto 5"/>
          <p:cNvSpPr/>
          <p:nvPr/>
        </p:nvSpPr>
        <p:spPr>
          <a:xfrm>
            <a:off x="533520" y="281952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ccff"/>
                </a:solidFill>
                <a:latin typeface="Staccato222 BT"/>
              </a:rPr>
              <a:t>Exit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uadro de texto 6"/>
          <p:cNvSpPr/>
          <p:nvPr/>
        </p:nvSpPr>
        <p:spPr>
          <a:xfrm rot="20781000">
            <a:off x="5867280" y="304812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99ff33"/>
                </a:solidFill>
                <a:latin typeface="Albertus Extra Bold"/>
              </a:rPr>
              <a:t>Cultur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uadro de texto 7"/>
          <p:cNvSpPr/>
          <p:nvPr/>
        </p:nvSpPr>
        <p:spPr>
          <a:xfrm rot="21292200">
            <a:off x="453960" y="401652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00"/>
                </a:solidFill>
                <a:latin typeface="BinnerD"/>
              </a:rPr>
              <a:t>Ambien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adro de texto 8"/>
          <p:cNvSpPr/>
          <p:nvPr/>
        </p:nvSpPr>
        <p:spPr>
          <a:xfrm>
            <a:off x="6324480" y="48006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66ffff"/>
                </a:solidFill>
                <a:latin typeface="Albertus Medium"/>
              </a:rPr>
              <a:t>Famil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uadro de texto 9"/>
          <p:cNvSpPr/>
          <p:nvPr/>
        </p:nvSpPr>
        <p:spPr>
          <a:xfrm>
            <a:off x="1981080" y="5562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lbertus Extra Bold"/>
              </a:rPr>
              <a:t>Trabaj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to 11"/>
          <p:cNvGraphicFramePr/>
          <p:nvPr/>
        </p:nvGraphicFramePr>
        <p:xfrm>
          <a:off x="4267080" y="1828800"/>
          <a:ext cx="1368720" cy="39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t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828800"/>
                    <a:ext cx="136872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7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7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Imagen 4" descr="Biblia-Esp-38-Mundo-Raz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ángulo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uadro de texto 2"/>
          <p:cNvSpPr/>
          <p:nvPr/>
        </p:nvSpPr>
        <p:spPr>
          <a:xfrm>
            <a:off x="685800" y="71424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66"/>
                </a:solidFill>
                <a:latin typeface="PosterBodoni BT"/>
              </a:rPr>
              <a:t>1. Buscan satisfacer sus propias necesidad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uadro de texto 3"/>
          <p:cNvSpPr/>
          <p:nvPr/>
        </p:nvSpPr>
        <p:spPr>
          <a:xfrm>
            <a:off x="3581280" y="216216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66"/>
                </a:solidFill>
                <a:latin typeface="PosterBodoni BT"/>
              </a:rPr>
              <a:t>2. Son más autónomos y menos depend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uadro de texto 4"/>
          <p:cNvSpPr/>
          <p:nvPr/>
        </p:nvSpPr>
        <p:spPr>
          <a:xfrm>
            <a:off x="952560" y="475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66"/>
                </a:solidFill>
                <a:latin typeface="PosterBodoni BT"/>
              </a:rPr>
              <a:t>3. Quieren que sus deseos sean respet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to 5" descr=""/>
          <p:cNvPicPr/>
          <p:nvPr/>
        </p:nvPicPr>
        <p:blipFill>
          <a:blip r:embed="rId1"/>
          <a:stretch/>
        </p:blipFill>
        <p:spPr>
          <a:xfrm>
            <a:off x="609480" y="216216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ángulo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718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uadro de texto 2"/>
          <p:cNvSpPr/>
          <p:nvPr/>
        </p:nvSpPr>
        <p:spPr>
          <a:xfrm>
            <a:off x="685800" y="60948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PosterBodoni BT"/>
              </a:rPr>
              <a:t>4. Tienen una experiencia que quieren y pueden compartir. Enrique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uadro de texto 3"/>
          <p:cNvSpPr/>
          <p:nvPr/>
        </p:nvSpPr>
        <p:spPr>
          <a:xfrm>
            <a:off x="838080" y="23623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ff66"/>
                </a:solidFill>
                <a:latin typeface="PosterBodoni BT"/>
              </a:rPr>
              <a:t>5. Resisten a los camb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uadro de texto 4"/>
          <p:cNvSpPr/>
          <p:nvPr/>
        </p:nvSpPr>
        <p:spPr>
          <a:xfrm>
            <a:off x="1676520" y="50292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PosterBodoni BT"/>
              </a:rPr>
              <a:t>Ven  una amenaza en nuevas experi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jeto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22878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uadro de texto 2"/>
          <p:cNvSpPr/>
          <p:nvPr/>
        </p:nvSpPr>
        <p:spPr>
          <a:xfrm>
            <a:off x="762120" y="838080"/>
            <a:ext cx="32763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PosterBodoni BT"/>
              </a:rPr>
              <a:t>6. Esperan cierto grado de comodidad fís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uadro de texto 3"/>
          <p:cNvSpPr/>
          <p:nvPr/>
        </p:nvSpPr>
        <p:spPr>
          <a:xfrm>
            <a:off x="990720" y="3505320"/>
            <a:ext cx="723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PosterBodoni BT"/>
              </a:rPr>
              <a:t>7. Están orientados hacia tareas de desarrollo, superación y crecimiento que se relacionen con sus propias necesidades edu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agen 6" descr="sala"/>
          <p:cNvPicPr/>
          <p:nvPr/>
        </p:nvPicPr>
        <p:blipFill>
          <a:blip r:embed="rId1"/>
          <a:stretch/>
        </p:blipFill>
        <p:spPr>
          <a:xfrm>
            <a:off x="4267080" y="609480"/>
            <a:ext cx="2971800" cy="278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ángulo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6a6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uadro de texto 2"/>
          <p:cNvSpPr/>
          <p:nvPr/>
        </p:nvSpPr>
        <p:spPr>
          <a:xfrm>
            <a:off x="609480" y="5335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ff66"/>
                </a:solidFill>
                <a:latin typeface="Albertus Extra Bold"/>
              </a:rPr>
              <a:t>8. Están orientados hacia lo que traiga consecuencias prácticas y próximas, sobre sus problemas y proyectos presentes e inmedi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uadro de texto 3"/>
          <p:cNvSpPr/>
          <p:nvPr/>
        </p:nvSpPr>
        <p:spPr>
          <a:xfrm>
            <a:off x="609480" y="2743200"/>
            <a:ext cx="5029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Albertus Extra Bold"/>
              </a:rPr>
              <a:t>9. Pueden aprender a cualquier edad (aunque no en las mismas condiciones) Se aconseja fortalecer su confianza propia para el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to 6"/>
          <p:cNvGraphicFramePr/>
          <p:nvPr/>
        </p:nvGraphicFramePr>
        <p:xfrm>
          <a:off x="5638680" y="2590920"/>
          <a:ext cx="28386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to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90920"/>
                    <a:ext cx="28386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ángulo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uadro de texto 2"/>
          <p:cNvSpPr/>
          <p:nvPr/>
        </p:nvSpPr>
        <p:spPr>
          <a:xfrm>
            <a:off x="1143000" y="16765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lbertus Extra Bold"/>
              </a:rPr>
              <a:t>10. Su aprendizaje es un proceso interno que involucra todo el ser. No se trata sólo de simple transmisión de informaciones. Se debe respetar la satisfacción de sus necesidades personales y metas propias establecid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uadro de texto 3"/>
          <p:cNvSpPr/>
          <p:nvPr/>
        </p:nvSpPr>
        <p:spPr>
          <a:xfrm>
            <a:off x="1066680" y="4572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forma 5"/>
          <p:cNvSpPr/>
          <p:nvPr/>
        </p:nvSpPr>
        <p:spPr>
          <a:xfrm>
            <a:off x="1523880" y="142920"/>
            <a:ext cx="3581640" cy="2133720"/>
          </a:xfrm>
          <a:custGeom>
            <a:avLst/>
            <a:gdLst>
              <a:gd name="textAreaLeft" fmla="*/ 524520 w 3581640"/>
              <a:gd name="textAreaRight" fmla="*/ 3057120 w 3581640"/>
              <a:gd name="textAreaTop" fmla="*/ 312480 h 2133720"/>
              <a:gd name="textAreaBottom" fmla="*/ 1821240 h 21337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uadro de texto 2"/>
          <p:cNvSpPr/>
          <p:nvPr/>
        </p:nvSpPr>
        <p:spPr>
          <a:xfrm>
            <a:off x="1447920" y="838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lbertus Extra Bold"/>
              </a:rPr>
              <a:t>Orientados hacia objetivos, actividades y aprendiz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uadro de texto 3"/>
          <p:cNvSpPr/>
          <p:nvPr/>
        </p:nvSpPr>
        <p:spPr>
          <a:xfrm>
            <a:off x="1523880" y="4343400"/>
            <a:ext cx="62485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lbertus Extra Bold"/>
              </a:rPr>
              <a:t>La enseñanza debe producir </a:t>
            </a:r>
            <a:r>
              <a:rPr b="0" lang="es-ES_tradnl" sz="4000" spc="-1" strike="noStrike">
                <a:solidFill>
                  <a:srgbClr val="ffffff"/>
                </a:solidFill>
                <a:latin typeface="Albertus Extra Bold"/>
              </a:rPr>
              <a:t>cambios y acción</a:t>
            </a:r>
            <a:r>
              <a:rPr b="0" lang="es-ES_tradnl" sz="3200" spc="-1" strike="noStrike">
                <a:solidFill>
                  <a:srgbClr val="ffffff"/>
                </a:solidFill>
                <a:latin typeface="Albertus Extra Bold"/>
              </a:rPr>
              <a:t> satisfactorios para ser efec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to 6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2286000" cy="2298960"/>
          </a:xfrm>
          <a:prstGeom prst="rect">
            <a:avLst/>
          </a:prstGeom>
          <a:ln w="0">
            <a:noFill/>
          </a:ln>
        </p:spPr>
      </p:pic>
      <p:pic>
        <p:nvPicPr>
          <p:cNvPr id="70" name="Objeto 7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1063800" cy="2287800"/>
          </a:xfrm>
          <a:prstGeom prst="rect">
            <a:avLst/>
          </a:prstGeom>
          <a:ln w="0">
            <a:noFill/>
          </a:ln>
        </p:spPr>
      </p:pic>
      <p:pic>
        <p:nvPicPr>
          <p:cNvPr id="71" name="Objeto 8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15512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ángulo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uadro de texto 4"/>
          <p:cNvSpPr/>
          <p:nvPr/>
        </p:nvSpPr>
        <p:spPr>
          <a:xfrm>
            <a:off x="762120" y="6094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Comodidad, aceptación, respeto mut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uadro de texto 5"/>
          <p:cNvSpPr/>
          <p:nvPr/>
        </p:nvSpPr>
        <p:spPr>
          <a:xfrm>
            <a:off x="5105520" y="160020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Libertad de expr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upo 21"/>
          <p:cNvGrpSpPr/>
          <p:nvPr/>
        </p:nvGrpSpPr>
        <p:grpSpPr>
          <a:xfrm>
            <a:off x="380880" y="2362320"/>
            <a:ext cx="4343400" cy="2361960"/>
            <a:chOff x="380880" y="2362320"/>
            <a:chExt cx="4343400" cy="2361960"/>
          </a:xfrm>
        </p:grpSpPr>
        <p:sp>
          <p:nvSpPr>
            <p:cNvPr id="76" name="Elipse 6"/>
            <p:cNvSpPr/>
            <p:nvPr/>
          </p:nvSpPr>
          <p:spPr>
            <a:xfrm>
              <a:off x="380880" y="2362320"/>
              <a:ext cx="4343400" cy="23619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Cuadro de texto 7"/>
            <p:cNvSpPr/>
            <p:nvPr/>
          </p:nvSpPr>
          <p:spPr>
            <a:xfrm>
              <a:off x="914400" y="2671920"/>
              <a:ext cx="3352680" cy="1556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llegro BT"/>
                </a:rPr>
                <a:t>11. Producir un clima favorable de aprendizaj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Cuadro de texto 9"/>
          <p:cNvSpPr/>
          <p:nvPr/>
        </p:nvSpPr>
        <p:spPr>
          <a:xfrm>
            <a:off x="5410080" y="36576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Compañerismo y apoyo mut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uadro de texto 10"/>
          <p:cNvSpPr/>
          <p:nvPr/>
        </p:nvSpPr>
        <p:spPr>
          <a:xfrm>
            <a:off x="1066680" y="533412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lbertus Extra Bold"/>
              </a:rPr>
              <a:t>Aprendizaje centrado en la persona y 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forma 13"/>
          <p:cNvSpPr/>
          <p:nvPr/>
        </p:nvSpPr>
        <p:spPr>
          <a:xfrm>
            <a:off x="1066680" y="1600200"/>
            <a:ext cx="685800" cy="990720"/>
          </a:xfrm>
          <a:prstGeom prst="upArrow">
            <a:avLst>
              <a:gd name="adj1" fmla="val 50000"/>
              <a:gd name="adj2" fmla="val 36115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forma 18"/>
          <p:cNvSpPr/>
          <p:nvPr/>
        </p:nvSpPr>
        <p:spPr>
          <a:xfrm>
            <a:off x="4343400" y="2895480"/>
            <a:ext cx="1905120" cy="83844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forma 19"/>
          <p:cNvSpPr/>
          <p:nvPr/>
        </p:nvSpPr>
        <p:spPr>
          <a:xfrm>
            <a:off x="3657600" y="1523880"/>
            <a:ext cx="1447920" cy="1295640"/>
          </a:xfrm>
          <a:custGeom>
            <a:avLst/>
            <a:gdLst>
              <a:gd name="textAreaLeft" fmla="*/ 833040 w 1447920"/>
              <a:gd name="textAreaRight" fmla="*/ 1300680 w 1447920"/>
              <a:gd name="textAreaTop" fmla="*/ 231840 h 1295640"/>
              <a:gd name="textAreaBottom" fmla="*/ 4975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61" y="0"/>
                </a:lnTo>
                <a:lnTo>
                  <a:pt x="15561" y="3865"/>
                </a:lnTo>
                <a:lnTo>
                  <a:pt x="12427" y="3865"/>
                </a:lnTo>
                <a:cubicBezTo>
                  <a:pt x="5564" y="3865"/>
                  <a:pt x="0" y="7578"/>
                  <a:pt x="0" y="12158"/>
                </a:cubicBezTo>
                <a:lnTo>
                  <a:pt x="0" y="21600"/>
                </a:lnTo>
                <a:lnTo>
                  <a:pt x="4526" y="21600"/>
                </a:lnTo>
                <a:lnTo>
                  <a:pt x="4526" y="12158"/>
                </a:lnTo>
                <a:cubicBezTo>
                  <a:pt x="4526" y="10023"/>
                  <a:pt x="8063" y="8293"/>
                  <a:pt x="12427" y="8293"/>
                </a:cubicBezTo>
                <a:lnTo>
                  <a:pt x="15561" y="8293"/>
                </a:lnTo>
                <a:lnTo>
                  <a:pt x="1556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forma 20"/>
          <p:cNvSpPr/>
          <p:nvPr/>
        </p:nvSpPr>
        <p:spPr>
          <a:xfrm>
            <a:off x="85680" y="4114800"/>
            <a:ext cx="1295280" cy="1523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ángulo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uadro de texto 2"/>
          <p:cNvSpPr/>
          <p:nvPr/>
        </p:nvSpPr>
        <p:spPr>
          <a:xfrm>
            <a:off x="685800" y="68580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PosterBodoni BT"/>
              </a:rPr>
              <a:t>12. Diagnosticar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PosterBodoni BT"/>
              </a:rPr>
              <a:t>necesidades</a:t>
            </a:r>
            <a:r>
              <a:rPr b="1" lang="es-ES_tradnl" sz="3200" spc="-1" strike="noStrike">
                <a:solidFill>
                  <a:srgbClr val="000000"/>
                </a:solidFill>
                <a:latin typeface="PosterBodoni BT"/>
              </a:rPr>
              <a:t> de los que aprenden es básico para los que enseñ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uadro de texto 3"/>
          <p:cNvSpPr/>
          <p:nvPr/>
        </p:nvSpPr>
        <p:spPr>
          <a:xfrm>
            <a:off x="4114800" y="297180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PosterBodoni BT"/>
              </a:rPr>
              <a:t>13. Lograr que el que aprende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PosterBodoni BT"/>
              </a:rPr>
              <a:t>participe</a:t>
            </a:r>
            <a:r>
              <a:rPr b="1" lang="es-ES_tradnl" sz="3200" spc="-1" strike="noStrike">
                <a:solidFill>
                  <a:srgbClr val="000000"/>
                </a:solidFill>
                <a:latin typeface="PosterBodoni BT"/>
              </a:rPr>
              <a:t> en el desarrollo de los trabajos o progra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to 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276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6:20:51Z</dcterms:created>
  <dc:creator>(TE) Rene Sand (D) Violeta-Samojluk</dc:creator>
  <dc:description/>
  <dc:language>en-US</dc:language>
  <cp:lastModifiedBy>Ney Devis</cp:lastModifiedBy>
  <dcterms:modified xsi:type="dcterms:W3CDTF">2010-06-07T14:50:02Z</dcterms:modified>
  <cp:revision>26</cp:revision>
  <dc:subject/>
  <dc:title>ADULTOS EN PROCESO DE APRENDIZAJE</dc:title>
</cp:coreProperties>
</file>